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4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3.wmf" ContentType="image/x-wmf"/>
  <Override PartName="/ppt/media/image15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1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body"/>
          </p:nvPr>
        </p:nvSpPr>
        <p:spPr>
          <a:xfrm>
            <a:off x="380520" y="434340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ftr" idx="1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y of Kansas Center for Research on Learning 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 type="sldNum" idx="1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O Overhead  </a:t>
            </a:r>
            <a:fld id="{61BC573D-1B53-4780-B708-800654F72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y of Kansas Center for Research on Learning 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O Overhead  </a:t>
            </a:r>
            <a:fld id="{26EAB211-B52E-41F4-B08E-301AB583E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380520" y="434340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 Challe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y of Kansas Center for Research on Learning 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O Overhead  </a:t>
            </a:r>
            <a:fld id="{F94941D0-9685-4CD7-9EBE-59C9D62F5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80520" y="434340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y of Kansas Center for Research on Learning 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O Overhead  </a:t>
            </a:r>
            <a:fld id="{F0B89991-9BDF-4A19-A838-3EA81AF1F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380520" y="434340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 Challe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y of Kansas Center for Research on Learning 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O Overhead  </a:t>
            </a:r>
            <a:fld id="{0C9D041A-817D-4286-A7F8-8992A5657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380520" y="434340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 Challe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y of Kansas Center for Research on Learning 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O Overhead  </a:t>
            </a:r>
            <a:fld id="{2A90F7DC-CBF1-47F1-968D-2D150DFD4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380520" y="434340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 Challe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y of Kansas Center for Research on Learning 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O Overhead  </a:t>
            </a:r>
            <a:fld id="{C64BD423-06DE-4DFA-932A-0E0BAAF0A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380520" y="434340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y of Kansas Center for Research on Learning 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O Overhead  </a:t>
            </a:r>
            <a:fld id="{FAA7B2C4-A836-481C-BB51-1B573D60C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380520" y="434340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 Challe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y of Kansas Center for Research on Learning 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O Overhead  </a:t>
            </a:r>
            <a:fld id="{F578F41C-336C-49DC-B0C4-134BA61CE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380520" y="434340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 Challe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y of Kansas Center for Research on Learning 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O Overhead  </a:t>
            </a:r>
            <a:fld id="{7A4203B3-2DAA-4F04-9DA8-2953C8730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380520" y="434340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 Challe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y of Kansas Center for Research on Learning 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O Overhead  </a:t>
            </a:r>
            <a:fld id="{0E4C67B9-2469-4A56-ACBB-ACE533825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380520" y="434340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 Challe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y of Kansas Center for Research on Learning 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O Overhead  </a:t>
            </a:r>
            <a:fld id="{CED8B119-9DEB-4B88-80F0-8160316A4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380520" y="434340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 Challe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y of Kansas Center for Research on Learning 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O Overhead  </a:t>
            </a:r>
            <a:fld id="{8FC92CD6-3731-43F8-8387-67829AA5C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380520" y="434340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 Challe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y of Kansas Center for Research on Learning 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O Overhead  </a:t>
            </a:r>
            <a:fld id="{CB77F0C9-8F29-4BD8-8CF0-5F28069D3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380520" y="434340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 Challe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y of Kansas Center for Research on Learning 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O Overhead  </a:t>
            </a:r>
            <a:fld id="{9A547308-B41E-486F-B7C3-F70EF8DD3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380520" y="434340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 Challe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y of Kansas Center for Research on Learning 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O Overhead  </a:t>
            </a:r>
            <a:fld id="{3D09F17A-E071-4A95-8F62-07F1B288A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380520" y="434340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 Challe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y of Kansas Center for Research on Learning 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O Overhead  </a:t>
            </a:r>
            <a:fld id="{D24D0206-9DEA-49A7-82B4-8A129E19D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380520" y="434340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 Challe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A55B1-C023-45D2-9E2D-DA3E134768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EB388-B8F0-490D-A1D3-408C5DE8DE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F0E98-B6BC-4F3D-A3A6-9B20CBEC5B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CD070-7E10-468A-AD94-DDE3F958B2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6D7D-AFEE-4845-84B0-4C8BB9D60E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7B6C-BE86-43C0-A42F-5107131C25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9146-A3CE-4006-B096-887159F3FF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1224-E893-436D-BB96-1E7BC37B2B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2A5F-D5FA-47ED-B5A7-13ED9DF196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3F54-C12B-42D6-9246-83820B47BC4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35F6-7BC6-462D-8CCD-77E7BD80FD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C59EE-51FD-4DB3-B4E2-EFD2CF97FD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66F7-08D5-459E-9F72-E872BC17D9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EFD1-61B1-4F75-A338-98BBB386F1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A525-D239-4510-A7D3-4F5913B5BD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BB21-1E49-4A1D-9986-A419B2573B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9C6E-8AC7-4558-80B4-607D8551FFA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D4195F-836A-49F8-B91E-017C5BBDB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F3870A-22B5-41F7-B9D0-31CC362B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D67333-C9D4-4B30-9727-0C50023A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CCDA80-E035-48E7-AF4B-1CD74BF8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D4883F-4546-493B-926A-FFB24D06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A52F0-731C-456E-9D48-74E0DBA5634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36EF0F-D7DF-43A3-9ABF-396BDA83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B977B7-8C4B-4B2D-BFAD-67217CCE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EC1A64-9777-41BF-842D-DE9E900D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494E61-D9B7-42C8-986B-95ACF459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64066E-56F9-46C0-9271-DEC30D6F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103577-B512-47D5-B435-4BF01FAE4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D44805-ABA9-4DF7-B7B5-DDEFD5687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1EA66F-E5FB-499C-B91E-4649FAD55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486D19-1668-403E-AA00-4B3CD0FE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BFB4F6-71D1-4F1E-9841-DEF81AD2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2E29C-8580-4D67-8582-E188E7B64FF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D7516F-FB41-472C-AB69-1FFC52CA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A6E001-0B55-4BC5-AEBD-0AB3FE88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7908D2-18B9-41EE-A465-F182979A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0878AE-71A9-4C08-8C15-B49DCE31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129753-F2F1-4604-9AAB-E7AE33C3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2D5D03-13F4-423A-BA8B-5C27086A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A9DC5E-1B66-4F85-8724-A4F5F9D8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B0ADFD-CB54-4EC5-B388-A78792402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FCF95A-B4BE-4753-9CC7-4216AF3BD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6A48C-A7D8-4256-B969-3DCFC387C4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20E60-9603-4970-8501-2D920F5BF6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C6EB9-3661-453B-909C-D0E73C4721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D8ED7-2ECD-4D46-87F6-A47911BB5D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26B0C-7994-4651-B6A0-2DFB2096F2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5"/>
          <p:cNvSpPr/>
          <p:nvPr/>
        </p:nvSpPr>
        <p:spPr>
          <a:xfrm rot="10800600">
            <a:off x="0" y="6209640"/>
            <a:ext cx="9144000" cy="646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46200"/>
              <a:gd name="textAreaBottom" fmla="*/ 646560 h 646200"/>
            </a:gdLst>
            <a:ahLst/>
            <a:rect l="textAreaLeft" t="textAreaTop" r="textAreaRight" b="textAreaBottom"/>
            <a:pathLst>
              <a:path w="5770" h="407">
                <a:moveTo>
                  <a:pt x="0" y="0"/>
                </a:moveTo>
                <a:lnTo>
                  <a:pt x="5770" y="0"/>
                </a:lnTo>
                <a:lnTo>
                  <a:pt x="5770" y="407"/>
                </a:lnTo>
                <a:lnTo>
                  <a:pt x="5502" y="407"/>
                </a:lnTo>
                <a:lnTo>
                  <a:pt x="5203" y="407"/>
                </a:lnTo>
                <a:lnTo>
                  <a:pt x="4828" y="399"/>
                </a:lnTo>
                <a:lnTo>
                  <a:pt x="4406" y="378"/>
                </a:lnTo>
                <a:lnTo>
                  <a:pt x="3954" y="341"/>
                </a:lnTo>
                <a:lnTo>
                  <a:pt x="3732" y="320"/>
                </a:lnTo>
                <a:lnTo>
                  <a:pt x="3518" y="291"/>
                </a:lnTo>
                <a:lnTo>
                  <a:pt x="3303" y="262"/>
                </a:lnTo>
                <a:lnTo>
                  <a:pt x="3104" y="218"/>
                </a:lnTo>
                <a:lnTo>
                  <a:pt x="2966" y="196"/>
                </a:lnTo>
                <a:lnTo>
                  <a:pt x="2590" y="131"/>
                </a:lnTo>
                <a:lnTo>
                  <a:pt x="2322" y="95"/>
                </a:lnTo>
                <a:lnTo>
                  <a:pt x="2023" y="66"/>
                </a:lnTo>
                <a:lnTo>
                  <a:pt x="1678" y="44"/>
                </a:lnTo>
                <a:lnTo>
                  <a:pt x="1311" y="29"/>
                </a:lnTo>
                <a:lnTo>
                  <a:pt x="0" y="22"/>
                </a:lnTo>
                <a:lnTo>
                  <a:pt x="0" y="0"/>
                </a:lnTo>
                <a:close/>
              </a:path>
            </a:pathLst>
          </a:custGeom>
          <a:solidFill>
            <a:srgbClr val="7f0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Freeform 6"/>
          <p:cNvSpPr/>
          <p:nvPr/>
        </p:nvSpPr>
        <p:spPr>
          <a:xfrm rot="10800000">
            <a:off x="-360" y="6776640"/>
            <a:ext cx="1033560" cy="81000"/>
          </a:xfrm>
          <a:custGeom>
            <a:avLst/>
            <a:gdLst>
              <a:gd name="textAreaLeft" fmla="*/ 0 w 1033560"/>
              <a:gd name="textAreaRight" fmla="*/ 1033920 w 103356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651" h="51">
                <a:moveTo>
                  <a:pt x="651" y="51"/>
                </a:moveTo>
                <a:lnTo>
                  <a:pt x="77" y="51"/>
                </a:lnTo>
                <a:lnTo>
                  <a:pt x="0" y="0"/>
                </a:lnTo>
                <a:lnTo>
                  <a:pt x="651" y="0"/>
                </a:lnTo>
                <a:lnTo>
                  <a:pt x="651" y="51"/>
                </a:lnTo>
                <a:close/>
              </a:path>
            </a:pathLst>
          </a:cu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838080" y="1295280"/>
            <a:ext cx="7315200" cy="0"/>
          </a:xfrm>
          <a:prstGeom prst="line">
            <a:avLst/>
          </a:prstGeom>
          <a:ln w="19080">
            <a:solidFill>
              <a:srgbClr val="6013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BFD6-BDD0-47E3-9D16-E5F8066C9E2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-360" y="6476760"/>
            <a:ext cx="3809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1" descr="sim_2color_sig"/>
          <p:cNvPicPr/>
          <p:nvPr/>
        </p:nvPicPr>
        <p:blipFill>
          <a:blip r:embed="rId2"/>
          <a:stretch/>
        </p:blipFill>
        <p:spPr>
          <a:xfrm>
            <a:off x="7453440" y="5784840"/>
            <a:ext cx="1690560" cy="96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2"/>
          <p:cNvSpPr/>
          <p:nvPr/>
        </p:nvSpPr>
        <p:spPr>
          <a:xfrm rot="10800000">
            <a:off x="-360" y="6776640"/>
            <a:ext cx="1033560" cy="81000"/>
          </a:xfrm>
          <a:custGeom>
            <a:avLst/>
            <a:gdLst>
              <a:gd name="textAreaLeft" fmla="*/ 0 w 1033560"/>
              <a:gd name="textAreaRight" fmla="*/ 1033920 w 103356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651" h="51">
                <a:moveTo>
                  <a:pt x="651" y="51"/>
                </a:moveTo>
                <a:lnTo>
                  <a:pt x="77" y="51"/>
                </a:lnTo>
                <a:lnTo>
                  <a:pt x="0" y="0"/>
                </a:lnTo>
                <a:lnTo>
                  <a:pt x="651" y="0"/>
                </a:lnTo>
                <a:lnTo>
                  <a:pt x="651" y="51"/>
                </a:lnTo>
                <a:close/>
              </a:path>
            </a:pathLst>
          </a:cu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Num" idx="3"/>
          </p:nvPr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01314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34B3-61D9-419B-B472-D0829BE5DAEF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-360" y="6476760"/>
            <a:ext cx="3809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01314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6" descr="sim_2color_sig"/>
          <p:cNvPicPr/>
          <p:nvPr/>
        </p:nvPicPr>
        <p:blipFill>
          <a:blip r:embed="rId2"/>
          <a:stretch/>
        </p:blipFill>
        <p:spPr>
          <a:xfrm>
            <a:off x="7975440" y="6188040"/>
            <a:ext cx="1168560" cy="668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"/>
          <p:cNvPicPr/>
          <p:nvPr/>
        </p:nvPicPr>
        <p:blipFill>
          <a:blip r:embed="rId2"/>
          <a:stretch/>
        </p:blipFill>
        <p:spPr>
          <a:xfrm>
            <a:off x="-41400" y="-9360"/>
            <a:ext cx="9196560" cy="668160"/>
          </a:xfrm>
          <a:prstGeom prst="rect">
            <a:avLst/>
          </a:prstGeom>
          <a:ln w="0">
            <a:noFill/>
          </a:ln>
        </p:spPr>
      </p:pic>
      <p:sp>
        <p:nvSpPr>
          <p:cNvPr id="87" name="Line 9"/>
          <p:cNvSpPr/>
          <p:nvPr/>
        </p:nvSpPr>
        <p:spPr>
          <a:xfrm>
            <a:off x="3200400" y="762120"/>
            <a:ext cx="0" cy="2133360"/>
          </a:xfrm>
          <a:prstGeom prst="line">
            <a:avLst/>
          </a:prstGeom>
          <a:ln w="12600">
            <a:solidFill>
              <a:srgbClr val="6013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0" descr=""/>
          <p:cNvPicPr/>
          <p:nvPr/>
        </p:nvPicPr>
        <p:blipFill>
          <a:blip r:embed="rId3"/>
          <a:stretch/>
        </p:blipFill>
        <p:spPr>
          <a:xfrm>
            <a:off x="-28440" y="5384880"/>
            <a:ext cx="9181800" cy="1493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sim_2color_sig"/>
          <p:cNvPicPr/>
          <p:nvPr/>
        </p:nvPicPr>
        <p:blipFill>
          <a:blip r:embed="rId4"/>
          <a:stretch/>
        </p:blipFill>
        <p:spPr>
          <a:xfrm>
            <a:off x="304920" y="1065240"/>
            <a:ext cx="2819160" cy="1611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ersity of Kansas Center for Research on Learning  1/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ersity of Kansas Center for Research on Learning 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E854-128B-43D6-A1E3-1B9FCD003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8" descr=""/>
          <p:cNvPicPr/>
          <p:nvPr/>
        </p:nvPicPr>
        <p:blipFill>
          <a:blip r:embed="rId2"/>
          <a:stretch/>
        </p:blipFill>
        <p:spPr>
          <a:xfrm>
            <a:off x="-41400" y="-9360"/>
            <a:ext cx="9196560" cy="668160"/>
          </a:xfrm>
          <a:prstGeom prst="rect">
            <a:avLst/>
          </a:prstGeom>
          <a:ln w="0">
            <a:noFill/>
          </a:ln>
        </p:spPr>
      </p:pic>
      <p:sp>
        <p:nvSpPr>
          <p:cNvPr id="132" name="Line 9"/>
          <p:cNvSpPr/>
          <p:nvPr/>
        </p:nvSpPr>
        <p:spPr>
          <a:xfrm>
            <a:off x="3200400" y="762120"/>
            <a:ext cx="0" cy="2133360"/>
          </a:xfrm>
          <a:prstGeom prst="line">
            <a:avLst/>
          </a:prstGeom>
          <a:ln w="12600">
            <a:solidFill>
              <a:srgbClr val="6013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10" descr=""/>
          <p:cNvPicPr/>
          <p:nvPr/>
        </p:nvPicPr>
        <p:blipFill>
          <a:blip r:embed="rId3"/>
          <a:stretch/>
        </p:blipFill>
        <p:spPr>
          <a:xfrm>
            <a:off x="-28440" y="5384880"/>
            <a:ext cx="9181800" cy="1493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sim_2color_sig"/>
          <p:cNvPicPr/>
          <p:nvPr/>
        </p:nvPicPr>
        <p:blipFill>
          <a:blip r:embed="rId4"/>
          <a:stretch/>
        </p:blipFill>
        <p:spPr>
          <a:xfrm>
            <a:off x="304920" y="1065240"/>
            <a:ext cx="2819160" cy="161136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dt" idx="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ersity of Kansas Center for Research on Learning  1/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ersity of Kansas Center for Research on Learning 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1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4BDE-6E86-4C15-821D-E690FE744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436480" y="228240"/>
            <a:ext cx="4267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1314"/>
                </a:solidFill>
                <a:latin typeface="Arial"/>
              </a:rPr>
              <a:t>WARNING:</a:t>
            </a:r>
            <a:endParaRPr b="0" lang="en-US" sz="44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49280" y="1371240"/>
            <a:ext cx="643896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Making, carrying, or using overhead transparencies for every item in this training packet poses a significant physical and mental health hazard to you and your audience -- use sparingly and very judiciousl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2"/>
          <p:cNvSpPr/>
          <p:nvPr/>
        </p:nvSpPr>
        <p:spPr>
          <a:xfrm>
            <a:off x="3798720" y="4952880"/>
            <a:ext cx="1543320" cy="1543320"/>
          </a:xfrm>
          <a:prstGeom prst="smileyFace">
            <a:avLst>
              <a:gd name="adj" fmla="val 9282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Oval 13"/>
          <p:cNvSpPr/>
          <p:nvPr/>
        </p:nvSpPr>
        <p:spPr>
          <a:xfrm>
            <a:off x="4494240" y="5791320"/>
            <a:ext cx="1522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0AD3-807F-4D1B-9C98-0CF1794839B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uccess Formula for Tests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-Taking Strategy + Study Strategies = Good Gr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I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IN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aired Associ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27B0-AA72-498F-A97B-40AC7C92902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Philosophical Underpinnings </a:t>
            </a:r>
            <a:br>
              <a:rPr sz="4000"/>
            </a:b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of the Strategic Instruction Model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students can learn to function independently in mainstream setting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ole of the </a:t>
            </a:r>
            <a:r>
              <a:rPr b="1" i="1" lang="en-US" sz="2600" spc="-1" strike="noStrike">
                <a:solidFill>
                  <a:srgbClr val="601314"/>
                </a:solidFill>
                <a:latin typeface="Arial"/>
              </a:rPr>
              <a:t>support-clas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eacher is to teach low-achieving students </a:t>
            </a:r>
            <a:r>
              <a:rPr b="1" i="1" lang="en-US" sz="2600" spc="-1" strike="noStrike">
                <a:solidFill>
                  <a:srgbClr val="601314"/>
                </a:solidFill>
                <a:latin typeface="Arial"/>
              </a:rPr>
              <a:t>strateg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at will enable them to be independent learners and perform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9F13-E856-4DA8-BF4E-1B92C11AF1E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Philosophical Underpinnings </a:t>
            </a:r>
            <a:br>
              <a:rPr sz="4000"/>
            </a:b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of the Strategic Instruction Model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ole of the </a:t>
            </a:r>
            <a:r>
              <a:rPr b="1" i="1" lang="en-US" sz="2600" spc="-1" strike="noStrike">
                <a:solidFill>
                  <a:srgbClr val="601314"/>
                </a:solidFill>
                <a:latin typeface="Arial"/>
              </a:rPr>
              <a:t>conten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eacher is to deliver subject-matter information in a manner that can be understood and remembered by low-achieving stud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ents should have a </a:t>
            </a:r>
            <a:r>
              <a:rPr b="1" i="1" lang="en-US" sz="2600" spc="-1" strike="noStrike">
                <a:solidFill>
                  <a:srgbClr val="601314"/>
                </a:solidFill>
                <a:latin typeface="Arial"/>
              </a:rPr>
              <a:t>major voi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i="1" lang="en-US" sz="2600" spc="-1" strike="noStrike">
                <a:solidFill>
                  <a:srgbClr val="601314"/>
                </a:solidFill>
                <a:latin typeface="Arial"/>
              </a:rPr>
              <a:t>decisi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bout what strategies they are to learn and how fast they are to learn these strateg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E456-B01F-49AD-B5D9-A14C6041C4D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Test-Taking Strategy Results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3441600" y="3048120"/>
            <a:ext cx="3899160" cy="1218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5"/>
          <p:cNvSpPr/>
          <p:nvPr/>
        </p:nvSpPr>
        <p:spPr>
          <a:xfrm>
            <a:off x="5397480" y="3048120"/>
            <a:ext cx="0" cy="11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3600360" y="2122560"/>
            <a:ext cx="158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5543640" y="2122560"/>
            <a:ext cx="158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8"/>
          <p:cNvSpPr/>
          <p:nvPr/>
        </p:nvSpPr>
        <p:spPr>
          <a:xfrm>
            <a:off x="2116800" y="3201840"/>
            <a:ext cx="11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3648240" y="322596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55%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5565960" y="322596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65%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Picture 11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A07C-2A7D-4DB7-BB23-CB56D826D1C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electing Students </a:t>
            </a:r>
            <a:br>
              <a:rPr sz="4000"/>
            </a:b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for the Test-Taking Strategy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who are required to take te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who are within 10 points of the passing range (achieving scores above 50%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tio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who have learned the memory/study strategies, such as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RST-Letter Mnemonic Strate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who have learned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ntence Writing Strate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F70E-A051-4259-86D6-DBA19689146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Test-Taking Strategy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ructional S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endix A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aluation Guidel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endix B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ructional Materi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endix C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endix D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swer Ke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AD66E-D15B-4ECF-8D82-5EC832D509B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Test-Taking Strategy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tructional St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test and Make Commi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al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ed Practice and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d Practice and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test and Make Commi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84F5-5E3F-47D6-B245-A329500A013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Test-Taking Strategy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tructional Stages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I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II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III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IV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7970-2991-42B7-9F35-233587C289D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Test-Taking Strategy</a:t>
            </a:r>
            <a:br>
              <a:rPr sz="4000"/>
            </a:b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tudent Folder Contents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nt Cover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ess 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ment Sh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 Cont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e C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led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ced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D92F-8CC0-4EC5-8294-9FF7B1EC9492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Picture 6" descr=""/>
          <p:cNvPicPr/>
          <p:nvPr/>
        </p:nvPicPr>
        <p:blipFill>
          <a:blip r:embed="rId1"/>
          <a:stretch/>
        </p:blipFill>
        <p:spPr>
          <a:xfrm>
            <a:off x="922320" y="212760"/>
            <a:ext cx="7302600" cy="61484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1355760" y="371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429000" y="1045800"/>
            <a:ext cx="5410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1314"/>
                </a:solidFill>
                <a:latin typeface="Arial"/>
              </a:rPr>
              <a:t>Test-Taking Strategy</a:t>
            </a:r>
            <a:endParaRPr b="0" lang="en-US" sz="28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3429000" y="3124080"/>
            <a:ext cx="51055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Learning Strategy Ser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University of Kans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enter for Research on Learn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awrence, Kans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345960" y="1203480"/>
            <a:ext cx="27291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32AA-F543-40D6-A82D-CE76E0F33905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cture 4" descr=""/>
          <p:cNvPicPr/>
          <p:nvPr/>
        </p:nvPicPr>
        <p:blipFill>
          <a:blip r:embed="rId1"/>
          <a:stretch/>
        </p:blipFill>
        <p:spPr>
          <a:xfrm>
            <a:off x="498600" y="530280"/>
            <a:ext cx="8151840" cy="56642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7B2F-14C5-4F7C-B708-0185A80EEE54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3"/>
          <p:cNvSpPr/>
          <p:nvPr/>
        </p:nvSpPr>
        <p:spPr>
          <a:xfrm>
            <a:off x="135360" y="380880"/>
            <a:ext cx="3916080" cy="59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TE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tion 1.   Put a circle around the letter next to the best choic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  Working conditions during the early paleonic period we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.  always fai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.  usually fai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.  never fai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.  never dangerou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  A score in football is call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.  a homeru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.  a dunk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.  a bingo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.  a touchdow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.  The average length of the four-toed cremuth 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.  one foo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.  three fee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.  twelve inch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.  eighteen inch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  The Argualan colonists fought the King because o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.  land right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.  water right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.  cruelt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.  unfair taxation of ex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ducts from their homelan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.  The battle of Ares took place because o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.  relig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.  famin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.  gree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.  a and b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.  Which of the following is a tree that does not stay green all year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.  fi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.  oak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.  junipe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.  pin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.  Couches and chairs are both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.  used only inside the hom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.  very fas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.  easy to rea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.  furniture for sitting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tion II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tch the term on the left with the word(s) on the righ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at means the same thing.  Write the letter in the blan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side the number of the appropriate term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_  1. appl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.  small grow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_  2. sethol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.  used to purchase good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_  3. trai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.  red or green frui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_  4. mone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.  form of transportat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4173480" y="380880"/>
            <a:ext cx="48470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TE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tion III.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rite a short essay below on the following topic:  M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ree Favorite Food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tion IV.   Write “True” or “False” in the blank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_  1.  Low levels of monoplast in the blood always indicates endematic infect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_  2.  January is a month in the spring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_  3.  Many of the countries in the lower peninsula region depend on irrig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crop watering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_  4.  If sendium is added to phosphorus, it never fails to ignite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_  5.  Most cancerous cells contain a form of skotema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_  6.  The first day of the work week is Monday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_  7.  The greedy Ares always stockpiled their gold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tion V.   Write a word in the blank that makes the sentence correc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  The last centrium used in a laser was the ____________________________________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  Apples, oranges, and pears are all __________________________________________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.  Reading, writing, and arithmetic are subjects taught in _________________________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  A variety of _________________________ are used in extol extract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Picture 5" descr=""/>
          <p:cNvPicPr/>
          <p:nvPr/>
        </p:nvPicPr>
        <p:blipFill>
          <a:blip r:embed="rId1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9E08-A314-4D93-8B77-F7A5655D879F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1"/>
          <a:stretch/>
        </p:blipFill>
        <p:spPr>
          <a:xfrm>
            <a:off x="2395440" y="262080"/>
            <a:ext cx="4356360" cy="60991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D2F4-ED86-43C7-BBF6-178E5B21B37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The Steps of the </a:t>
            </a:r>
            <a:br>
              <a:rPr sz="4000"/>
            </a:b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Test-Taking Strategy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are to succ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spect the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3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d, remember, redu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4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swer or aban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5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n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6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7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10"/>
          <p:cNvGrpSpPr/>
          <p:nvPr/>
        </p:nvGrpSpPr>
        <p:grpSpPr>
          <a:xfrm>
            <a:off x="1322280" y="2643120"/>
            <a:ext cx="326880" cy="1330200"/>
            <a:chOff x="1322280" y="2643120"/>
            <a:chExt cx="326880" cy="1330200"/>
          </a:xfrm>
        </p:grpSpPr>
        <p:sp>
          <p:nvSpPr>
            <p:cNvPr id="330" name="Line 4"/>
            <p:cNvSpPr/>
            <p:nvPr/>
          </p:nvSpPr>
          <p:spPr>
            <a:xfrm>
              <a:off x="1326960" y="2643120"/>
              <a:ext cx="32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5"/>
            <p:cNvSpPr/>
            <p:nvPr/>
          </p:nvSpPr>
          <p:spPr>
            <a:xfrm>
              <a:off x="1331640" y="2643120"/>
              <a:ext cx="0" cy="1328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6"/>
            <p:cNvSpPr/>
            <p:nvPr/>
          </p:nvSpPr>
          <p:spPr>
            <a:xfrm>
              <a:off x="1322280" y="3973320"/>
              <a:ext cx="26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7"/>
            <p:cNvSpPr/>
            <p:nvPr/>
          </p:nvSpPr>
          <p:spPr>
            <a:xfrm>
              <a:off x="1415880" y="3252600"/>
              <a:ext cx="23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"/>
            <p:cNvSpPr/>
            <p:nvPr/>
          </p:nvSpPr>
          <p:spPr>
            <a:xfrm>
              <a:off x="1420560" y="3252600"/>
              <a:ext cx="0" cy="63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9"/>
            <p:cNvSpPr/>
            <p:nvPr/>
          </p:nvSpPr>
          <p:spPr>
            <a:xfrm>
              <a:off x="1415880" y="3882960"/>
              <a:ext cx="169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6" name="Picture 12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126A-C14A-460F-A04F-CC187CAACCA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tep 1: Prepare to Succeed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t your name and PIRATES on the te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ot time and order to sec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y affirmation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rt within 2 minu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8714-C43E-40E9-92B7-0296DCCFF37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tep 2: Inspect the Instructions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d instructions careful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derline what to do and where to respon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ice special requirem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240A-53E0-4BF2-8EB4-97D5FE1E5B4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Underline What to do</a:t>
            </a:r>
            <a:br>
              <a:rPr sz="4000"/>
            </a:b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and Where to Respond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ircle the letter next to the most appropriate choi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442280" indent="0">
              <a:spcBef>
                <a:spcPts val="499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rite “T” in front of statements that are true. Write “F” in front of statements that are fals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442280" indent="0">
              <a:spcBef>
                <a:spcPts val="499"/>
              </a:spcBef>
              <a:buNone/>
              <a:tabLst>
                <a:tab algn="l" pos="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e a “+” in front of statements that are true. Make a “-” in front of statements that are fals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7EF0-514D-44E1-816D-25C4F5C6DF4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tep 3: Read, Remember, Reduce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d the whole ques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member what you studi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duce the choic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18C7-D53D-4F0E-B236-9D9E5F2125D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tep 4: Answer or Abandon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swer the ques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andon the question for the mo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C91A-0CB2-4F00-8411-91084C56E10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Absolute Words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4E82-A2DE-4CCA-B647-AA93370B893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6413400" y="27115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6361200" y="325584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6388200" y="37940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6375240" y="433692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6361200" y="476712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6642000" y="49658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6340320" y="53895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3781440" y="23353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Learning Strategies Curriculum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quisi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d Ide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phr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Questi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ual Imag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reting Visual A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B1F8-B27D-452B-B20F-200116DEEAD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Non-Absolute Words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d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E3A8-7CAA-4A15-9994-B74A4C7805F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tep 6: Estimate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void absolu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oose the longest or most detailed choi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iminate similar choic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42D1-CCF1-4354-AE91-3526E881DBE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Step 7: Survey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rvey to ensure all questions are answer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witch an answer only if you’re su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4EA1-22BF-4502-868B-19816C4F3AF9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824040" y="108000"/>
            <a:ext cx="749592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udent’s Name: ___________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temp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Explaining Strategy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2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3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4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5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6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In Own Word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Naming Strategy Step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pare to succee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spect the instruction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ad, remember, reduc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swer or Aband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urn back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stimat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rve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Naming Substep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t name and PIRA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 the tes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ot time and orde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y affirmation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rt within 2 minut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derline “what” &amp; “where”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te special requirement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Naming “ACE” Guessing Techniqu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void absolut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oose the longest choic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iminate similar choic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Ques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 ______________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 ______________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. ______________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centage Correc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%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%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%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%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%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5"/>
          <p:cNvSpPr/>
          <p:nvPr/>
        </p:nvSpPr>
        <p:spPr>
          <a:xfrm>
            <a:off x="3051720" y="380880"/>
            <a:ext cx="29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-Taking Strate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bal Practice Check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Picture 6" descr=""/>
          <p:cNvPicPr/>
          <p:nvPr/>
        </p:nvPicPr>
        <p:blipFill>
          <a:blip r:embed="rId1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8A17-CA35-4F7D-B19F-BBED65C269B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Test-Taking Strategy</a:t>
            </a:r>
            <a:br>
              <a:rPr sz="4000"/>
            </a:b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Mnemonic Devices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 (P ste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(I ste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E (E ste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PASS and RUN, you’ll score more points and ACE the te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D89E-89EA-4FAF-98FF-EB1B838E8D80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Picture 7" descr=""/>
          <p:cNvPicPr/>
          <p:nvPr/>
        </p:nvPicPr>
        <p:blipFill>
          <a:blip r:embed="rId1"/>
          <a:stretch/>
        </p:blipFill>
        <p:spPr>
          <a:xfrm>
            <a:off x="2278080" y="264960"/>
            <a:ext cx="4592520" cy="60404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57E2-51C3-4D2F-A50E-0A7875D66E1E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3886200" y="457200"/>
            <a:ext cx="58428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Picture 6" descr=""/>
          <p:cNvPicPr/>
          <p:nvPr/>
        </p:nvPicPr>
        <p:blipFill>
          <a:blip r:embed="rId1"/>
          <a:stretch/>
        </p:blipFill>
        <p:spPr>
          <a:xfrm>
            <a:off x="219240" y="184320"/>
            <a:ext cx="4368600" cy="56196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7" descr=""/>
          <p:cNvPicPr/>
          <p:nvPr/>
        </p:nvPicPr>
        <p:blipFill>
          <a:blip r:embed="rId2"/>
          <a:stretch/>
        </p:blipFill>
        <p:spPr>
          <a:xfrm>
            <a:off x="4603680" y="184320"/>
            <a:ext cx="4417920" cy="56196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6" descr=""/>
          <p:cNvPicPr/>
          <p:nvPr/>
        </p:nvPicPr>
        <p:blipFill>
          <a:blip r:embed="rId3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Slide Number Placeholder 1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F7F9-ADAA-4369-84A4-4C1F66AB32CA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Footer Placeholder 2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Picture 3" descr=""/>
          <p:cNvPicPr/>
          <p:nvPr/>
        </p:nvPicPr>
        <p:blipFill>
          <a:blip r:embed="rId1"/>
          <a:stretch/>
        </p:blipFill>
        <p:spPr>
          <a:xfrm>
            <a:off x="2200320" y="219240"/>
            <a:ext cx="4746600" cy="60721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C8EF-C165-435B-8A27-1B69C776483F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Picture 5" descr=""/>
          <p:cNvPicPr/>
          <p:nvPr/>
        </p:nvPicPr>
        <p:blipFill>
          <a:blip r:embed="rId1"/>
          <a:stretch/>
        </p:blipFill>
        <p:spPr>
          <a:xfrm>
            <a:off x="120600" y="309600"/>
            <a:ext cx="4478400" cy="56163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6" descr=""/>
          <p:cNvPicPr/>
          <p:nvPr/>
        </p:nvPicPr>
        <p:blipFill>
          <a:blip r:embed="rId2"/>
          <a:stretch/>
        </p:blipFill>
        <p:spPr>
          <a:xfrm>
            <a:off x="4697280" y="309600"/>
            <a:ext cx="4226040" cy="54529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5" descr=""/>
          <p:cNvPicPr/>
          <p:nvPr/>
        </p:nvPicPr>
        <p:blipFill>
          <a:blip r:embed="rId3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0A26-E1B9-40E9-865A-5920A5D452E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Test-Taking Strategy Affirmations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 look for ways to use th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est-Taking Strateg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very da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 believe that when I use th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est-Taking Strategy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 will be successfu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 believe that use of th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est-Taking Strateg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will help me achieve my goa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 look forward to taking tests and using th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est-Taking Strateg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4"/>
          <p:cNvSpPr/>
          <p:nvPr/>
        </p:nvSpPr>
        <p:spPr>
          <a:xfrm>
            <a:off x="5334120" y="4470480"/>
            <a:ext cx="3530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Picture 6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25AA-A797-4D5E-8BA7-00CE7396B30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6807240" y="29527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6553080" y="34545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6896160" y="36291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6642000" y="40640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6566040" y="459252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6962760" y="478296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6489720" y="525924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Learning Strategies Curriculum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-Letter Mnem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red Associ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ning and Note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2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381C-EDCA-4E98-8A43-11777E48B15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Test-Taking Strategy Affirmations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 enjoy using “PIRATES” and showing what I know on tes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 work through tests easily using “PIRATES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I use the “REMEMBER” step of “PIRATES,” answers come to me quick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 am a successful test-taker when I use “PIRATES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F758-2055-4D48-BB87-5E2BB0E2F2FD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Picture 5" descr=""/>
          <p:cNvPicPr/>
          <p:nvPr/>
        </p:nvPicPr>
        <p:blipFill>
          <a:blip r:embed="rId1"/>
          <a:stretch/>
        </p:blipFill>
        <p:spPr>
          <a:xfrm>
            <a:off x="109440" y="549360"/>
            <a:ext cx="4451400" cy="54198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6" descr=""/>
          <p:cNvPicPr/>
          <p:nvPr/>
        </p:nvPicPr>
        <p:blipFill>
          <a:blip r:embed="rId2"/>
          <a:stretch/>
        </p:blipFill>
        <p:spPr>
          <a:xfrm>
            <a:off x="4664160" y="549360"/>
            <a:ext cx="4375080" cy="53942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6" descr=""/>
          <p:cNvPicPr/>
          <p:nvPr/>
        </p:nvPicPr>
        <p:blipFill>
          <a:blip r:embed="rId3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B896-269A-4AD7-91A3-9C0D258245B5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6"/>
          <p:cNvSpPr/>
          <p:nvPr/>
        </p:nvSpPr>
        <p:spPr>
          <a:xfrm>
            <a:off x="8508960" y="609480"/>
            <a:ext cx="380880" cy="20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Picture 7" descr=""/>
          <p:cNvPicPr/>
          <p:nvPr/>
        </p:nvPicPr>
        <p:blipFill>
          <a:blip r:embed="rId1"/>
          <a:stretch/>
        </p:blipFill>
        <p:spPr>
          <a:xfrm>
            <a:off x="217440" y="179280"/>
            <a:ext cx="4407120" cy="58453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"/>
          <p:cNvPicPr/>
          <p:nvPr/>
        </p:nvPicPr>
        <p:blipFill>
          <a:blip r:embed="rId2"/>
          <a:stretch/>
        </p:blipFill>
        <p:spPr>
          <a:xfrm>
            <a:off x="4646520" y="179280"/>
            <a:ext cx="4432320" cy="58071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6" descr=""/>
          <p:cNvPicPr/>
          <p:nvPr/>
        </p:nvPicPr>
        <p:blipFill>
          <a:blip r:embed="rId3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F4D2-4F4F-46D5-B2ED-7DF77A00AB0A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Picture 9" descr=""/>
          <p:cNvPicPr/>
          <p:nvPr/>
        </p:nvPicPr>
        <p:blipFill>
          <a:blip r:embed="rId1"/>
          <a:stretch/>
        </p:blipFill>
        <p:spPr>
          <a:xfrm>
            <a:off x="136440" y="187200"/>
            <a:ext cx="4386240" cy="57229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0" descr=""/>
          <p:cNvPicPr/>
          <p:nvPr/>
        </p:nvPicPr>
        <p:blipFill>
          <a:blip r:embed="rId2"/>
          <a:stretch/>
        </p:blipFill>
        <p:spPr>
          <a:xfrm>
            <a:off x="4556160" y="187200"/>
            <a:ext cx="4487760" cy="591372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5" descr=""/>
          <p:cNvPicPr/>
          <p:nvPr/>
        </p:nvPicPr>
        <p:blipFill>
          <a:blip r:embed="rId3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3D3D-B934-49AE-8B6D-DD544799472C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Picture 6" descr=""/>
          <p:cNvPicPr/>
          <p:nvPr/>
        </p:nvPicPr>
        <p:blipFill>
          <a:blip r:embed="rId1"/>
          <a:stretch/>
        </p:blipFill>
        <p:spPr>
          <a:xfrm>
            <a:off x="123840" y="157320"/>
            <a:ext cx="4402080" cy="57769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7" descr=""/>
          <p:cNvPicPr/>
          <p:nvPr/>
        </p:nvPicPr>
        <p:blipFill>
          <a:blip r:embed="rId2"/>
          <a:stretch/>
        </p:blipFill>
        <p:spPr>
          <a:xfrm>
            <a:off x="4719600" y="157320"/>
            <a:ext cx="4314960" cy="58258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5" descr=""/>
          <p:cNvPicPr/>
          <p:nvPr/>
        </p:nvPicPr>
        <p:blipFill>
          <a:blip r:embed="rId3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574F-7113-4D1C-A754-5D48FFED61EE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Picture 4" descr=""/>
          <p:cNvPicPr/>
          <p:nvPr/>
        </p:nvPicPr>
        <p:blipFill>
          <a:blip r:embed="rId1"/>
          <a:stretch/>
        </p:blipFill>
        <p:spPr>
          <a:xfrm>
            <a:off x="2300400" y="181080"/>
            <a:ext cx="4548240" cy="614844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4" descr=""/>
          <p:cNvPicPr/>
          <p:nvPr/>
        </p:nvPicPr>
        <p:blipFill>
          <a:blip r:embed="rId2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063D-B55A-4AE1-B64B-FA69BB89DD12}" type="slidenum">
              <a:rPr b="0" lang="en-US" sz="1000" spc="-1" strike="noStrike">
                <a:solidFill>
                  <a:srgbClr val="60131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01314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Picture 4" descr=""/>
          <p:cNvPicPr/>
          <p:nvPr/>
        </p:nvPicPr>
        <p:blipFill>
          <a:blip r:embed="rId1"/>
          <a:stretch/>
        </p:blipFill>
        <p:spPr>
          <a:xfrm>
            <a:off x="166680" y="450720"/>
            <a:ext cx="4433760" cy="57150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5" descr=""/>
          <p:cNvPicPr/>
          <p:nvPr/>
        </p:nvPicPr>
        <p:blipFill>
          <a:blip r:embed="rId2"/>
          <a:stretch/>
        </p:blipFill>
        <p:spPr>
          <a:xfrm>
            <a:off x="4657680" y="450720"/>
            <a:ext cx="4284720" cy="58136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"/>
          <p:cNvPicPr/>
          <p:nvPr/>
        </p:nvPicPr>
        <p:blipFill>
          <a:blip r:embed="rId3"/>
          <a:stretch/>
        </p:blipFill>
        <p:spPr>
          <a:xfrm>
            <a:off x="7983360" y="6240600"/>
            <a:ext cx="1136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CB07-50A3-486C-844F-C44A5064C7D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6870600" y="24987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6858000" y="269064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6858000" y="288756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6908760" y="33782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6907320" y="39387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6946920" y="44704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6870600" y="50101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6908760" y="545292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7277040" y="5656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6896160" y="608796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Learning Strategies Curriculum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57360" y="130608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ression and Demonstration of Compete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t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grap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 Moni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ment Comple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T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4"/>
          <p:cNvSpPr/>
          <p:nvPr/>
        </p:nvSpPr>
        <p:spPr>
          <a:xfrm>
            <a:off x="1436760" y="5000760"/>
            <a:ext cx="2133360" cy="507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16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AA14-41D9-4654-AABC-4EA07C9F0F0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Test-Taking Strategy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tinent Setting Dem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arge majority of a student’s mainstream course grade is based on test sc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rpose of this Strate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ke the student active in attacking a test and earning as many points as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nable students to talk to themselves and to promote positive attitudes while taking t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promote a feeling of confidence with regard to taking t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1C17-A17C-4AE7-ADB0-025CEF4775D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The Steps of the </a:t>
            </a:r>
            <a:br>
              <a:rPr sz="4000"/>
            </a:b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Test-Taking Strategy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 1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pare to succe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 2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pect the instru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 3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d, remember, redu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 4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swer or aband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 5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urn b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 6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im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ep 7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rv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10"/>
          <p:cNvGrpSpPr/>
          <p:nvPr/>
        </p:nvGrpSpPr>
        <p:grpSpPr>
          <a:xfrm>
            <a:off x="1314360" y="2305080"/>
            <a:ext cx="326880" cy="1330200"/>
            <a:chOff x="1314360" y="2305080"/>
            <a:chExt cx="326880" cy="1330200"/>
          </a:xfrm>
        </p:grpSpPr>
        <p:sp>
          <p:nvSpPr>
            <p:cNvPr id="240" name="Line 4"/>
            <p:cNvSpPr/>
            <p:nvPr/>
          </p:nvSpPr>
          <p:spPr>
            <a:xfrm>
              <a:off x="1319040" y="2305080"/>
              <a:ext cx="32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"/>
            <p:cNvSpPr/>
            <p:nvPr/>
          </p:nvSpPr>
          <p:spPr>
            <a:xfrm>
              <a:off x="1323720" y="2305080"/>
              <a:ext cx="0" cy="1328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6"/>
            <p:cNvSpPr/>
            <p:nvPr/>
          </p:nvSpPr>
          <p:spPr>
            <a:xfrm>
              <a:off x="1314360" y="3635280"/>
              <a:ext cx="26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7"/>
            <p:cNvSpPr/>
            <p:nvPr/>
          </p:nvSpPr>
          <p:spPr>
            <a:xfrm>
              <a:off x="1407960" y="2914560"/>
              <a:ext cx="23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8"/>
            <p:cNvSpPr/>
            <p:nvPr/>
          </p:nvSpPr>
          <p:spPr>
            <a:xfrm>
              <a:off x="1412640" y="2914560"/>
              <a:ext cx="0" cy="63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Line 9"/>
            <p:cNvSpPr/>
            <p:nvPr/>
          </p:nvSpPr>
          <p:spPr>
            <a:xfrm>
              <a:off x="1407960" y="3544920"/>
              <a:ext cx="169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6" name="Picture 12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CA7B-DA4A-4980-B8CA-ED2E0F36449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Rationales Behind </a:t>
            </a:r>
            <a:br>
              <a:rPr sz="4000"/>
            </a:b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the Test-Taking Strategy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ents often do not have a routine to follow as they take tests. Use of this strategy provides a routine to use during a te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ents often have negative thoughts as they take tests. This strategy requires positive self-talk during a te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3"/>
          <p:cNvSpPr/>
          <p:nvPr/>
        </p:nvSpPr>
        <p:spPr>
          <a:xfrm>
            <a:off x="0" y="62485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0A75-474D-4E7F-A2F0-7D12C85CC01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0" y="6477120"/>
            <a:ext cx="3809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niversity of Kansas Center for Research on Learning 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Rationales Behind </a:t>
            </a:r>
            <a:br>
              <a:rPr sz="4000"/>
            </a:br>
            <a:r>
              <a:rPr b="0" lang="en-US" sz="4000" spc="-1" strike="noStrike">
                <a:solidFill>
                  <a:srgbClr val="601314"/>
                </a:solidFill>
                <a:latin typeface="Arial"/>
              </a:rPr>
              <a:t>the Test-Taking Strategy</a:t>
            </a:r>
            <a:endParaRPr b="0" lang="en-US" sz="4000" spc="-1" strike="noStrike">
              <a:solidFill>
                <a:srgbClr val="601314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ents often do not answer several questions on a test. This strategy provides them ways to behave when they are not sure of an answ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ents often do not know how to approach short essay questions. This strategy provides them with a set of behaviors to use when answering an essay ques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5" descr=""/>
          <p:cNvPicPr/>
          <p:nvPr/>
        </p:nvPicPr>
        <p:blipFill>
          <a:blip r:embed="rId1"/>
          <a:stretch/>
        </p:blipFill>
        <p:spPr>
          <a:xfrm>
            <a:off x="7466040" y="5869080"/>
            <a:ext cx="16351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7T21:19:55Z</dcterms:created>
  <dc:creator>Brian Staats</dc:creator>
  <dc:description/>
  <dc:language>en-US</dc:language>
  <cp:lastModifiedBy>IU5</cp:lastModifiedBy>
  <dcterms:modified xsi:type="dcterms:W3CDTF">2011-10-19T12:34:04Z</dcterms:modified>
  <cp:revision>57</cp:revision>
  <dc:subject/>
  <dc:title>WARNING:</dc:title>
</cp:coreProperties>
</file>